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9.gif" ContentType="image/gif"/>
  <Override PartName="/ppt/media/image52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D1F-35B3-45D6-AC48-16EA5F2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AD-F576-4D6E-B601-551B99B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3DD-068F-47B6-9D3A-7E87EC36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400-2A56-431D-B9C6-D8C6453B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963-185A-4444-AF4C-31CD4108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628-C7A7-4AAC-A377-7C5367B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A51-BCFF-43FE-BEDD-4E5737B9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EB9-79C0-4CF2-BB24-7A6FB49A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48B-F6EC-4933-BADA-CE217C5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E68-43FB-4878-A6B5-65F05D6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166-5B51-46BE-A962-F6D2E27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F75-F85F-4925-880C-FAF007F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ABB-73A0-4D46-9DA4-98880104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5800" y="1654200"/>
            <a:ext cx="80773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apter 6 Slides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371520" y="3924360"/>
            <a:ext cx="840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sing Object Methods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10" descr="jessica"/>
          <p:cNvPicPr/>
          <p:nvPr/>
        </p:nvPicPr>
        <p:blipFill>
          <a:blip r:embed="rId2"/>
          <a:stretch/>
        </p:blipFill>
        <p:spPr>
          <a:xfrm>
            <a:off x="6548400" y="5027760"/>
            <a:ext cx="2595600" cy="1830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9"/>
          <p:cNvSpPr txBox="1"/>
          <p:nvPr/>
        </p:nvSpPr>
        <p:spPr>
          <a:xfrm rot="235200">
            <a:off x="3009600" y="4724280"/>
            <a:ext cx="3076560" cy="20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PowerPoint Presentation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created by: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Mr. John L. M. Schra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and Mr. Leon Schra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authors of Exposure Jav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</p:txBody>
      </p:sp>
      <p:pic>
        <p:nvPicPr>
          <p:cNvPr id="45" name="Picture 26" descr="Parents"/>
          <p:cNvPicPr/>
          <p:nvPr/>
        </p:nvPicPr>
        <p:blipFill>
          <a:blip r:embed="rId3"/>
          <a:stretch/>
        </p:blipFill>
        <p:spPr>
          <a:xfrm>
            <a:off x="0" y="5030640"/>
            <a:ext cx="2889360" cy="1827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22"/>
          <p:cNvSpPr txBox="1"/>
          <p:nvPr/>
        </p:nvSpPr>
        <p:spPr>
          <a:xfrm>
            <a:off x="152280" y="15228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act"/>
              </a:rPr>
              <a:t>Exposure Java 2011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act"/>
              </a:rPr>
              <a:t>APCS Edition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52280" y="2895480"/>
            <a:ext cx="8839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ndom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4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5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introduces the &lt;Random&gt; class, which is part of the &lt;java.util&gt;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ackage.  The &lt;nextInt&gt; method returns a random integer value.  Note that the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values change each time that you execute the program.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5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5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4646520" y="0"/>
            <a:ext cx="4497480" cy="343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648320" y="3416400"/>
            <a:ext cx="4495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6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"seeds" the Random object with a specific starting seed.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Multiple executions will now display the same random numbers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6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6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724280" y="3395520"/>
            <a:ext cx="4419720" cy="343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7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the second "overloaded" &lt;nextInt(n)&gt; method,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which returns an integer x, such that 0 &lt;= x &lt; n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7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7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43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181480" y="3386160"/>
            <a:ext cx="39625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9144000" cy="6786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8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introduces the &lt;setSeed&gt; method.  This method allows you to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ntrol the "randomness" and repeat the same sequenc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8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8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.setSeed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9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the &lt;nextDouble&gt; method,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which returns a real x, such that 0 &lt;= x &lt; 1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9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9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10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how to control an Random class object so that i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nerates integers in a desired range.  In this example the range is [10..99]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10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10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1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how to control an Random class object so that i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nerates random upper-case letters.  Note how "type casting" with (char) is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used to change random integers in the [65..90] range to [A..Z] letter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11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11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278400" y="0"/>
            <a:ext cx="2865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andom Numbers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990720"/>
            <a:ext cx="8534160" cy="56397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numbers are used in many areas of life: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ttery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you need a random integer in a specified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Largest integer you w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Smallest integer you w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large - small + 1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.out.println(rand.nextInt(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sm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4" descr="j0283646"/>
          <p:cNvPicPr/>
          <p:nvPr/>
        </p:nvPicPr>
        <p:blipFill>
          <a:blip r:embed="rId1"/>
          <a:stretch/>
        </p:blipFill>
        <p:spPr>
          <a:xfrm>
            <a:off x="3352680" y="1600200"/>
            <a:ext cx="1981440" cy="145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23746"/>
          <p:cNvPicPr/>
          <p:nvPr/>
        </p:nvPicPr>
        <p:blipFill>
          <a:blip r:embed="rId2"/>
          <a:stretch/>
        </p:blipFill>
        <p:spPr>
          <a:xfrm>
            <a:off x="5591160" y="1600200"/>
            <a:ext cx="2867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P Exam Al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600200"/>
            <a:ext cx="7772400" cy="4480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its methods, are not tested on the AP Exam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the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h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will be tested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are allowed to 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and its methods in free response questions on the AP Exam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4" descr="MMj03368600000[1]"/>
          <p:cNvPicPr/>
          <p:nvPr/>
        </p:nvPicPr>
        <p:blipFill>
          <a:blip r:embed="rId1"/>
          <a:stretch/>
        </p:blipFill>
        <p:spPr>
          <a:xfrm>
            <a:off x="86724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Mj03368600000[1]"/>
          <p:cNvPicPr/>
          <p:nvPr/>
        </p:nvPicPr>
        <p:blipFill>
          <a:blip r:embed="rId2"/>
          <a:stretch/>
        </p:blipFill>
        <p:spPr>
          <a:xfrm>
            <a:off x="82296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Mj03368600000[1]"/>
          <p:cNvPicPr/>
          <p:nvPr/>
        </p:nvPicPr>
        <p:blipFill>
          <a:blip r:embed="rId3"/>
          <a:stretch/>
        </p:blipFill>
        <p:spPr>
          <a:xfrm>
            <a:off x="4428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Mj03368600000[1]"/>
          <p:cNvPicPr/>
          <p:nvPr/>
        </p:nvPicPr>
        <p:blipFill>
          <a:blip r:embed="rId4"/>
          <a:stretch/>
        </p:blipFill>
        <p:spPr>
          <a:xfrm>
            <a:off x="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Mj03368600000[1]"/>
          <p:cNvPicPr/>
          <p:nvPr/>
        </p:nvPicPr>
        <p:blipFill>
          <a:blip r:embed="rId5"/>
          <a:stretch/>
        </p:blipFill>
        <p:spPr>
          <a:xfrm>
            <a:off x="783432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Mj03368600000[1]"/>
          <p:cNvPicPr/>
          <p:nvPr/>
        </p:nvPicPr>
        <p:blipFill>
          <a:blip r:embed="rId6"/>
          <a:stretch/>
        </p:blipFill>
        <p:spPr>
          <a:xfrm>
            <a:off x="900000" y="76320"/>
            <a:ext cx="4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457200" y="160020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es &amp;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295280" y="3886200"/>
            <a:ext cx="6553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2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52280" y="2895480"/>
            <a:ext cx="8839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th.Random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5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295280" y="4952880"/>
            <a:ext cx="6553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hod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2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ice that it behaves just like the nextDouble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Both will return a random real number n such that 0 &lt;= n &lt; 1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  // needed for Random class, but not needed for Math.random method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2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2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3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real numbers in the range of 0 to 99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son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3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3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4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integers in the range of 0 to 99 by using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typecast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on 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4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4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5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integers in the range of 1000 to 9999 by using typecasting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on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 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5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5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102360" y="1523880"/>
            <a:ext cx="3041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th.rando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04920" y="990720"/>
            <a:ext cx="8534160" cy="577188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andom numbers can also be created with th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Math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class in this way: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s before, you start with these 3 values: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Largest integer you want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Smallest integer you want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large - small + 1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int x = (int) (Math.random() * range + small);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at actually happens is that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Math.random(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returns a real# between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.99999999999..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When multiplied by the range it returns a number between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range-1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(just lik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nextIn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cimalForma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6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6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"right justify" integers with an objec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f the &lt;DecimalFormat&gt; class and the &lt;format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6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6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000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9"/>
          <p:cNvGrpSpPr/>
          <p:nvPr/>
        </p:nvGrpSpPr>
        <p:grpSpPr>
          <a:xfrm>
            <a:off x="5715000" y="2549520"/>
            <a:ext cx="3200400" cy="4118040"/>
            <a:chOff x="5715000" y="2549520"/>
            <a:chExt cx="3200400" cy="4118040"/>
          </a:xfrm>
        </p:grpSpPr>
        <p:sp>
          <p:nvSpPr>
            <p:cNvPr id="134" name="WordArt 5"/>
            <p:cNvSpPr txBox="1"/>
            <p:nvPr/>
          </p:nvSpPr>
          <p:spPr>
            <a:xfrm>
              <a:off x="5715000" y="3676680"/>
              <a:ext cx="3200400" cy="299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95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NOTE: The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output.format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is ignored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for numbers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that are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too large.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 flipH="1">
              <a:off x="7315200" y="259092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V="1">
              <a:off x="7772400" y="2549520"/>
              <a:ext cx="0" cy="103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7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insert commas in numerical outpu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ith a &lt;DecimalFormat&gt; object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7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7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0,000,0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5880" y="3922560"/>
            <a:ext cx="2819520" cy="23493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ry thi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he DecimalFormat to “0,000” and make the last number 123456789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8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display US currency amount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dditionally, note how the &lt;format&gt; methods rounds off to the nearest penny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8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8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$0.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.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.3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.43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.54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.65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.76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eview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th Class 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523880" y="1870200"/>
            <a:ext cx="6172200" cy="4483080"/>
            <a:chOff x="1523880" y="1870200"/>
            <a:chExt cx="6172200" cy="4483080"/>
          </a:xfrm>
        </p:grpSpPr>
        <p:sp>
          <p:nvSpPr>
            <p:cNvPr id="52" name="Text Box 3"/>
            <p:cNvSpPr/>
            <p:nvPr/>
          </p:nvSpPr>
          <p:spPr>
            <a:xfrm>
              <a:off x="1523880" y="1870200"/>
              <a:ext cx="6172200" cy="4483080"/>
            </a:xfrm>
            <a:prstGeom prst="rect">
              <a:avLst/>
            </a:prstGeom>
            <a:solidFill>
              <a:srgbClr val="00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Text Box 4"/>
            <p:cNvSpPr/>
            <p:nvPr/>
          </p:nvSpPr>
          <p:spPr>
            <a:xfrm>
              <a:off x="2209680" y="24796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4952880" y="24796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qrt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4952880" y="33940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2209680" y="33940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4952880" y="43848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w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Text Box 16"/>
            <p:cNvSpPr/>
            <p:nvPr/>
          </p:nvSpPr>
          <p:spPr>
            <a:xfrm>
              <a:off x="2209680" y="43848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2209680" y="52992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eil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Text Box 18"/>
            <p:cNvSpPr/>
            <p:nvPr/>
          </p:nvSpPr>
          <p:spPr>
            <a:xfrm>
              <a:off x="4952880" y="52992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0"/>
            <a:ext cx="9144000" cy="6781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Java0619.java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program demonstrates how to control rounding off to a specified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number of digits beyond the decimal point.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class Java0619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\nJAVA0619.JAVA\n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1 = new DecimalFormat("0.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2 = new DecimalFormat("0.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3 = new DecimalFormat("0.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4 = new DecimalFormat("0.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5 = new DecimalFormat("0.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6 = new DecimalFormat("0.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7 = new DecimalFormat("0.0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8 = new DecimalFormat("0.00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Math.PI)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1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2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3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4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5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6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7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8.format(Math.PI));     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3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7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WordArt 2"/>
          <p:cNvSpPr txBox="1"/>
          <p:nvPr/>
        </p:nvSpPr>
        <p:spPr>
          <a:xfrm>
            <a:off x="380880" y="29718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c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"/>
          <p:cNvSpPr txBox="1"/>
          <p:nvPr/>
        </p:nvSpPr>
        <p:spPr>
          <a:xfrm>
            <a:off x="380880" y="13716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king with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"/>
          <p:cNvSpPr txBox="1"/>
          <p:nvPr/>
        </p:nvSpPr>
        <p:spPr>
          <a:xfrm>
            <a:off x="380880" y="4724280"/>
            <a:ext cx="83059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6782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0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shows how you can create your own display colors by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creating color objects with different (Red, Green, Blue) value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RGB values are in the [0..255] range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0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255,0,255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0,255,255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20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100,100,100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40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5791320" y="266688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6813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2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shows all the shades of Red, Green and Blue using the &lt;setColor&gt; method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21 extends Apple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red = 0; red &lt;= 255; red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red,0,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red,0,red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green = 0; green &lt;= 255; green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0,green,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green+255,0,green+255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blue = 0; blue &lt;= 255;blue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0,0,blue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blue+510,0,blue+510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5791320" y="266688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6782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2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draws three squares with user-defined &lt;Color&gt; object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2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Red = new Color(255,0,64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Green = new Color(16,255,16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Blue = new Color(64,64,255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Red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Gree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14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Blue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6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4876920" y="0"/>
          <a:ext cx="4267080" cy="29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0"/>
                    <a:ext cx="426708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nonymous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079640"/>
            <a:ext cx="8534160" cy="5578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s exist where an object identifier is not necessary when creating a new object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jority of objects have an object identifier like these two examples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nk tom = new Bank(2500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myRed = new Color(255,0,64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also objects that are used as parameters in a method call like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.setColor(new Color(100,100,100)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Color object is created, but not identifie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objec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onym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2590920" y="0"/>
            <a:ext cx="6553080" cy="20667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Pain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[Colors] - [Edit Colors] - [Define Custom Colors]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e triangle at the right side of the window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he crosshairs and triangle until you get the color you want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olor/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B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umbers into your java program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gnore the Hue, Sat, and Lum!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1"/>
          <p:cNvSpPr txBox="1"/>
          <p:nvPr/>
        </p:nvSpPr>
        <p:spPr>
          <a:xfrm>
            <a:off x="152280" y="0"/>
            <a:ext cx="228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y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s!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5943600" y="5181480"/>
            <a:ext cx="2362320" cy="1371600"/>
            <a:chOff x="5943600" y="5181480"/>
            <a:chExt cx="2362320" cy="1371600"/>
          </a:xfrm>
        </p:grpSpPr>
        <p:sp>
          <p:nvSpPr>
            <p:cNvPr id="163" name="Oval 7"/>
            <p:cNvSpPr/>
            <p:nvPr/>
          </p:nvSpPr>
          <p:spPr>
            <a:xfrm>
              <a:off x="6934320" y="5181480"/>
              <a:ext cx="1371600" cy="13716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 flipH="1" flipV="1">
              <a:off x="5943600" y="5333760"/>
              <a:ext cx="83808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 flipV="1">
              <a:off x="5943600" y="5337000"/>
              <a:ext cx="83808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6818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2.java  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// Try This!  Add your customized color!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2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Red = new Color(255,0,64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Green = new Color(16,255,16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Blue = new Color(64,64,255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Color myBrown = new Color(150,100,1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Red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Gree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14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Blue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6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g.setColor(myBrow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g.fillRect(380,100,100,100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648320" y="4213080"/>
            <a:ext cx="4495680" cy="2629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4038480" y="327672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se are the EXACT same color!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6781680" y="5867280"/>
            <a:ext cx="91440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0" name="Object 10"/>
          <p:cNvGraphicFramePr/>
          <p:nvPr/>
        </p:nvGraphicFramePr>
        <p:xfrm>
          <a:off x="3276720" y="0"/>
          <a:ext cx="586728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0"/>
                    <a:ext cx="586728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val 7"/>
          <p:cNvSpPr/>
          <p:nvPr/>
        </p:nvSpPr>
        <p:spPr>
          <a:xfrm>
            <a:off x="7467480" y="1371600"/>
            <a:ext cx="144792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eview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th Class Attribu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1523880" y="1895400"/>
            <a:ext cx="6172200" cy="1495800"/>
            <a:chOff x="1523880" y="1895400"/>
            <a:chExt cx="6172200" cy="1495800"/>
          </a:xfrm>
        </p:grpSpPr>
        <p:sp>
          <p:nvSpPr>
            <p:cNvPr id="63" name="Text Box 4"/>
            <p:cNvSpPr/>
            <p:nvPr/>
          </p:nvSpPr>
          <p:spPr>
            <a:xfrm>
              <a:off x="1523880" y="1895400"/>
              <a:ext cx="6172200" cy="1495800"/>
            </a:xfrm>
            <a:prstGeom prst="rect">
              <a:avLst/>
            </a:prstGeom>
            <a:solidFill>
              <a:srgbClr val="00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4" name="Text Box 5"/>
            <p:cNvSpPr/>
            <p:nvPr/>
          </p:nvSpPr>
          <p:spPr>
            <a:xfrm>
              <a:off x="2209680" y="251460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4952880" y="251460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76320" y="4267080"/>
          <a:ext cx="8991360" cy="2073240"/>
        </p:xfrm>
        <a:graphic>
          <a:graphicData uri="http://schemas.openxmlformats.org/drawingml/2006/table">
            <a:tbl>
              <a:tblPr/>
              <a:tblGrid>
                <a:gridCol w="1066680"/>
                <a:gridCol w="79246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mference of a Circle / its Diamete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3.14159265358979323846264338327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f the Natural Lo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.718281828459045235360287471352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8" descr="pi1"/>
          <p:cNvPicPr/>
          <p:nvPr/>
        </p:nvPicPr>
        <p:blipFill>
          <a:blip r:embed="rId1"/>
          <a:stretch/>
        </p:blipFill>
        <p:spPr>
          <a:xfrm>
            <a:off x="114480" y="43052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e1"/>
          <p:cNvPicPr/>
          <p:nvPr/>
        </p:nvPicPr>
        <p:blipFill>
          <a:blip r:embed="rId2"/>
          <a:stretch/>
        </p:blipFill>
        <p:spPr>
          <a:xfrm>
            <a:off x="114480" y="53341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cial Note for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o Create Web P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4920" y="1531800"/>
            <a:ext cx="8534160" cy="5094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ame technique can be used to pick colors for a web page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ever do a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View - Page Sour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a web page, you may see something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line shows the same RGB (red, green, blue) values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used in the same way that we did in Java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ird line also uses RGB (red, green, blue) values, but these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base 16 (Hexadecimal) number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method works.  Chapter 16 will discus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umber Sys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7772400" cy="1476360"/>
          </a:xfrm>
          <a:prstGeom prst="rect">
            <a:avLst/>
          </a:prstGeom>
          <a:ln w="0">
            <a:noFill/>
          </a:ln>
        </p:spPr>
      </p:pic>
      <p:sp>
        <p:nvSpPr>
          <p:cNvPr id="176" name="Line 5"/>
          <p:cNvSpPr/>
          <p:nvPr/>
        </p:nvSpPr>
        <p:spPr>
          <a:xfrm>
            <a:off x="457200" y="3782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457200" y="3765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715000" y="39798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8077320" y="3962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Drawing Polyg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04920" y="1079640"/>
            <a:ext cx="8534160" cy="5580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has some special features to draw polygons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ics class provides two methods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raw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ll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you draw any polygon, you must first create an object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s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ret in drawing polygons is to use the following three steps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a Polygon objec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ordinates to the object using addPoi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the Polygon with draw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MCWB01037_0000[1]"/>
          <p:cNvPicPr/>
          <p:nvPr/>
        </p:nvPicPr>
        <p:blipFill>
          <a:blip r:embed="rId1"/>
          <a:stretch/>
        </p:blipFill>
        <p:spPr>
          <a:xfrm>
            <a:off x="181080" y="152280"/>
            <a:ext cx="581040" cy="29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WB01038_0000[1]"/>
          <p:cNvPicPr/>
          <p:nvPr/>
        </p:nvPicPr>
        <p:blipFill>
          <a:blip r:embed="rId2"/>
          <a:stretch/>
        </p:blipFill>
        <p:spPr>
          <a:xfrm>
            <a:off x="7696080" y="15228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MCWB01040_0000[1]"/>
          <p:cNvPicPr/>
          <p:nvPr/>
        </p:nvPicPr>
        <p:blipFill>
          <a:blip r:embed="rId3"/>
          <a:stretch/>
        </p:blipFill>
        <p:spPr>
          <a:xfrm>
            <a:off x="8305920" y="533520"/>
            <a:ext cx="380880" cy="266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MCWB01039_0000[1]"/>
          <p:cNvPicPr/>
          <p:nvPr/>
        </p:nvPicPr>
        <p:blipFill>
          <a:blip r:embed="rId4"/>
          <a:stretch/>
        </p:blipFill>
        <p:spPr>
          <a:xfrm>
            <a:off x="533520" y="533520"/>
            <a:ext cx="819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23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raws a pentagon with the &lt;drawPolygon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ethods &lt;drawPolygon&gt; and &lt;fillPolygon&gt; take a Polygon object a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arameter.  The polygon object stores a set of points.  Points can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 added to a Polygon object with the &lt;addPoint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23 extends Apple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ygon penta = new Polygon(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400,7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550,2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500,3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300,3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250,2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drawPolygon(penta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638680" y="4363920"/>
            <a:ext cx="2819520" cy="198360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ry thi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raw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ll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9144000" cy="6782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4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demonstrates that the sequence of adding points is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significant.  The same coordinates of the previous program are used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in the different sequence.  The display is very different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4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lygon penta = new Polygon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300,35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400,7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25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55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500,35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drawPolygon(penta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8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457200" y="144792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ndom Numbers &amp;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80880" y="388620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cs 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Java0625.java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This program displays 1000 random lines.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class Java0625 extends Applet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ndom rndInt = new Random(12345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int k = 1; k &lt;= 1000; k++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x1 = rndInt.nextInt(8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y1 = rndInt.nextInt(6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x2 = rndInt.nextInt(8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y2 = rndInt.nextInt(6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.drawLine(x1,y1,x2,y2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5791320" y="314316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26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combines random squares with random color object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26 extends Apple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rndInt = new Random(12345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(int k = 1; k &lt;= 1000; k++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x = rndInt.nextInt(8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y = rndInt.nextInt(6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red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green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blue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setColor(new Color(red,green,blue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fillRect(x,y,50,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5791320" y="314316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nner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9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457200" y="160020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Objec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95280" y="3886200"/>
            <a:ext cx="6553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hod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3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Java 5.0 Al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19320" y="1349280"/>
            <a:ext cx="6629400" cy="4516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is a new feature that is released 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JDK 5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Java Development Kit) by Sun Micro Systems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will not be recognized by any earlier editions of the Java language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15" descr="MMj03368600000[1]"/>
          <p:cNvPicPr/>
          <p:nvPr/>
        </p:nvPicPr>
        <p:blipFill>
          <a:blip r:embed="rId1"/>
          <a:stretch/>
        </p:blipFill>
        <p:spPr>
          <a:xfrm>
            <a:off x="852012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MMj03368600000[1]"/>
          <p:cNvPicPr/>
          <p:nvPr/>
        </p:nvPicPr>
        <p:blipFill>
          <a:blip r:embed="rId2"/>
          <a:stretch/>
        </p:blipFill>
        <p:spPr>
          <a:xfrm>
            <a:off x="1522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MMj03368600000[1]"/>
          <p:cNvPicPr/>
          <p:nvPr/>
        </p:nvPicPr>
        <p:blipFill>
          <a:blip r:embed="rId3"/>
          <a:stretch/>
        </p:blipFill>
        <p:spPr>
          <a:xfrm>
            <a:off x="812484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MMj03368600000[1]"/>
          <p:cNvPicPr/>
          <p:nvPr/>
        </p:nvPicPr>
        <p:blipFill>
          <a:blip r:embed="rId4"/>
          <a:stretch/>
        </p:blipFill>
        <p:spPr>
          <a:xfrm>
            <a:off x="7682040" y="-76320"/>
            <a:ext cx="47124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MMj03368600000[1]"/>
          <p:cNvPicPr/>
          <p:nvPr/>
        </p:nvPicPr>
        <p:blipFill>
          <a:blip r:embed="rId5"/>
          <a:stretch/>
        </p:blipFill>
        <p:spPr>
          <a:xfrm>
            <a:off x="7224840" y="-76320"/>
            <a:ext cx="47124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MMj03368600000[1]"/>
          <p:cNvPicPr/>
          <p:nvPr/>
        </p:nvPicPr>
        <p:blipFill>
          <a:blip r:embed="rId6"/>
          <a:stretch/>
        </p:blipFill>
        <p:spPr>
          <a:xfrm>
            <a:off x="15238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MMj03368600000[1]"/>
          <p:cNvPicPr/>
          <p:nvPr/>
        </p:nvPicPr>
        <p:blipFill>
          <a:blip r:embed="rId7"/>
          <a:stretch/>
        </p:blipFill>
        <p:spPr>
          <a:xfrm>
            <a:off x="10666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MMj03368600000[1]"/>
          <p:cNvPicPr/>
          <p:nvPr/>
        </p:nvPicPr>
        <p:blipFill>
          <a:blip r:embed="rId8"/>
          <a:stretch/>
        </p:blipFill>
        <p:spPr>
          <a:xfrm>
            <a:off x="609480" y="-76320"/>
            <a:ext cx="4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791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Java0627.jav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demonstrates how to instantiate a &lt;Scanner&gt; object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e &lt;input&gt; object is used with the &lt;nextLine&gt; method to enter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tring values from the keyboard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mport java.util.Scanner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5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class Java0627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tatic void main (String args[]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canner input = new Scanner(System.in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5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"\nJAVA0627.JAVA\n"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("Enter name  ===&gt;&gt;  "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 name = input.nextLine(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"Name Entered:      " + name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0"/>
            <a:ext cx="9144000" cy="68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8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uses the &lt;nextInt&gt; method to enter integers from the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keyboard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e arithmetic addition proves that the entered values are integer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8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"\nJAVA0628.JAVA\n"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("Enter 1st Number  ===&gt;&gt;  "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int number1 = input.nextInt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("Enter 2nd Number  ===&gt;&gt;  "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int number2 = input.nextInt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 sum = number1 + number2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);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number1 + " + " + number2 + " = " + sum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7035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29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how to use the &lt;nextDouble&gt; method for three separate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double keyboard inputs, which are used to display the mean.                                                 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29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29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1  ===&gt;&gt;  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1 = input.nextDouble();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2  ===&gt;&gt;  "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2 = input.nextDouble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3  ===&gt;&gt;  "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3 = input.nextDouble();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3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uble mean = (n1+n2+n3)/3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The mean is " + mea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9144000" cy="6998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30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an interesting problem with the &lt;Scanner&gt; clas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It appears that order matters.  Enter a string first, followed by a number, an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verything is fine.  In reverse order there is no opportunity to enter a name.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30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30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Name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name1 = 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Age 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 age1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Age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 age2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Name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name2 = input.nextLine();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Name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Age:   " + ag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Name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Age:   " + age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0"/>
            <a:ext cx="9144000" cy="6752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3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cures the &lt;Scanner&gt; class problem with a "dummy" variabl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e dummy variable removes the &lt;crLf&gt; character from the buffer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31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31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Name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name1 = input.nextLine();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Age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age1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Age 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age2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dummy = 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Name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name2 = input.nextLine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Name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Age:   " + ag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Name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Age:   " + age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5333760" y="4191120"/>
            <a:ext cx="3505320" cy="1620000"/>
            <a:chOff x="5333760" y="4191120"/>
            <a:chExt cx="3505320" cy="1620000"/>
          </a:xfrm>
        </p:grpSpPr>
        <p:sp>
          <p:nvSpPr>
            <p:cNvPr id="224" name="Text Box 5"/>
            <p:cNvSpPr/>
            <p:nvPr/>
          </p:nvSpPr>
          <p:spPr>
            <a:xfrm>
              <a:off x="6553080" y="4863960"/>
              <a:ext cx="2286000" cy="947160"/>
            </a:xfrm>
            <a:prstGeom prst="rect">
              <a:avLst/>
            </a:prstGeom>
            <a:solidFill>
              <a:srgbClr val="ff99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254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 Black"/>
                </a:rPr>
                <a:t>removes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254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 Black"/>
                </a:rPr>
                <a:t>CRLF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 flipH="1">
              <a:off x="5333760" y="4225680"/>
              <a:ext cx="2361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7696080" y="4191120"/>
              <a:ext cx="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227" name="Picture 11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889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2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example shows a second solution to the buffer problem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In this case two &lt;Scanner&gt; objects are constructed for &lt;int&gt; input an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&lt;String&gt; input.  It is not necessary to clear the buffer with a "dummy" variabl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2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2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anner int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anner stringInput = new Scanner(System.in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umber 1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mber1 = intInput.nextInt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ame 1 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ame1 = string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umber 2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mber2 = intInput.nextInt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ame 2 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ame2 = string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umber 1:  " + number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ame 1  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umber 2:  " + number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ame 2  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anner class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04920" y="838080"/>
            <a:ext cx="8534160" cy="5850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release of Java JDK 5.0 the Scanner class is available for interactive, text-style, program input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ut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ckage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board input requires a Scanner object that is instantiated with the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ystem.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ameter,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keyboard = new Scanner(System.in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Line() method is used to enter String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Int() method is used to enter int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Double() method is used to enter double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Dou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not remove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R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acter from the buffer, like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ans that a dummy String variable must be used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dummy = input.nextLine(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lso exists an alternative solution.  Create a separate Scanner object for each data type that is keyboard entere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P Exam Al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838080" y="1447920"/>
            <a:ext cx="7467840" cy="26535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 input is extremely important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fficient program testing that avoids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-coding variable values. 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Scanner class is not tested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AP Computer Science Examination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Picture 4" descr="MMj03368600000[1]"/>
          <p:cNvPicPr/>
          <p:nvPr/>
        </p:nvPicPr>
        <p:blipFill>
          <a:blip r:embed="rId1"/>
          <a:stretch/>
        </p:blipFill>
        <p:spPr>
          <a:xfrm>
            <a:off x="86724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MMj03368600000[1]"/>
          <p:cNvPicPr/>
          <p:nvPr/>
        </p:nvPicPr>
        <p:blipFill>
          <a:blip r:embed="rId2"/>
          <a:stretch/>
        </p:blipFill>
        <p:spPr>
          <a:xfrm>
            <a:off x="82296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MMj03368600000[1]"/>
          <p:cNvPicPr/>
          <p:nvPr/>
        </p:nvPicPr>
        <p:blipFill>
          <a:blip r:embed="rId3"/>
          <a:stretch/>
        </p:blipFill>
        <p:spPr>
          <a:xfrm>
            <a:off x="4428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MMj03368600000[1]"/>
          <p:cNvPicPr/>
          <p:nvPr/>
        </p:nvPicPr>
        <p:blipFill>
          <a:blip r:embed="rId4"/>
          <a:stretch/>
        </p:blipFill>
        <p:spPr>
          <a:xfrm>
            <a:off x="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MMj03368600000[1]"/>
          <p:cNvPicPr/>
          <p:nvPr/>
        </p:nvPicPr>
        <p:blipFill>
          <a:blip r:embed="rId5"/>
          <a:stretch/>
        </p:blipFill>
        <p:spPr>
          <a:xfrm>
            <a:off x="783432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MMj03368600000[1]"/>
          <p:cNvPicPr/>
          <p:nvPr/>
        </p:nvPicPr>
        <p:blipFill>
          <a:blip r:embed="rId6"/>
          <a:stretch/>
        </p:blipFill>
        <p:spPr>
          <a:xfrm>
            <a:off x="9144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MMAG00293_0000[1]"/>
          <p:cNvPicPr/>
          <p:nvPr/>
        </p:nvPicPr>
        <p:blipFill>
          <a:blip r:embed="rId7"/>
          <a:stretch/>
        </p:blipFill>
        <p:spPr>
          <a:xfrm>
            <a:off x="3505320" y="4191120"/>
            <a:ext cx="2290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teger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10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0"/>
            <a:ext cx="9144000" cy="6796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Java0601.java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This program demonstrates that the methods of a class are not always 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accessible, like they were with the &lt;Math&gt; class.  In this case an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attempt is made to use methods of the &lt;Bank&gt; class without success.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class Java0601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\nJAVA0601.JAVA\n"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k.changeChecking(1000.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k.changeSavings(5000.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Checking balance: " + Bank.getChecking()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Savings balance:  " + Bank.getSavings()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9144000" cy="68900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3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introduces the &lt;Integer&gt; clas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An &lt;Integer&gt; object is an "object" which can store an &lt;int&gt; valu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e &lt;Integer&gt; class is used in this program as it was require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in the Java versions before Java 5.0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is also the manner in which AP Exam questions will appear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3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3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1 = new Integer(1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2 = new Integer(2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1 = new Double(1.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2 = new Double(2.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1: " + intObject1.int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2: " + intObject2.int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1: " + doubleObject1.double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2: " + doubleObject2.doubleValue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440" y="0"/>
            <a:ext cx="9088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 vs. Inte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uble vs. Dou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1828800"/>
            <a:ext cx="7772400" cy="467964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imple/primitive data type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pital “D”) are classe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lasses have attributes and method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used for mathematical calculation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be used when objects,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imple/primitive data types, are require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see examples of this later in the course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9144000" cy="688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4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demonstrates the exact same processing as the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previous program.  This processing is accomplished with less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program code.  These shortcut features came available with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 version 5.0 and later versions.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4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4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1 = 100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2 = 200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1 = 1.1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2 = 2.2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1: " + intObject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2: " + intObject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1: " + doubleObject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2: " + doubleObject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0"/>
            <a:ext cx="9144000" cy="6763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5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&lt;int&gt; values are stored in four bytes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uses the &lt;Integer.MAX_VALUE&gt; and &lt;Integer.MIN_VALUE&g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constants to display the largest and smallest &lt;int&gt; value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5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5.JAVA\n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Largest integer:  " +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nteger.MAX_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Smallest integer: " + 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teger.MIN_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2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11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WordArt 2"/>
          <p:cNvSpPr txBox="1"/>
          <p:nvPr/>
        </p:nvSpPr>
        <p:spPr>
          <a:xfrm>
            <a:off x="457200" y="144792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ked Ou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380880" y="388620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ercise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portant Note Ab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"Worked Out Exercis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600200" y="2460600"/>
            <a:ext cx="6095880" cy="24699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"Worked Out Exercises" for Chapter 6 are in the file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Slides06-WOEx.pp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2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creates two Bank objects, called tom and sue.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ach object stores its own Bank information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2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8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t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= new Bank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sue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 = new Bank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.changeChecking(10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.changeSavings(50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.changeChecking(15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.changeSavings(4000.0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9144000" cy="673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03.java             This program demonstrates how an object can be constructed with a specified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                                      initial balance in checking and savings.  Most Java classes have multiple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                                      constructors to create objects for multiple situation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03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03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k tom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 = new Bank(5000.0,10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k sue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 = new Bank(3000.0,15000.0);     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 makes a $1000.00 checking withdrawal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.changeChecking(-1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 makes a $2000.00 savings withdrawal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.changeSavings(-2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 makes a $1500.00 checking deposit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.changeChecking(+15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 makes a $3000.00 savings deposit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.changeSavings(+3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   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781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Java0604.java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program demonstrates the &lt;getCombined&gt; method of the &lt;Bank&gt; class.  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method returns the combined checking and savings balance.  It also shows how to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close bank accounts with the &lt;closeChecking&gt; and the &lt;closeSavings&gt; methods.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class Java0604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\nJAVA0604.JAVA\n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nk Tom = new Bank(5000.0,10000.0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nk Sue = new Bank(3000.0,15000.0);       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ombined balance: " + tom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ombined balance: " + sue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om.closeChecking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om.closeSavings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e.closeChecking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e.closeSavings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ombined balance: " + tom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ombined balance: " + sue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3:08:29Z</dcterms:created>
  <dc:creator>John Schram</dc:creator>
  <dc:description/>
  <dc:language>en-US</dc:language>
  <cp:lastModifiedBy>vicki.coffman</cp:lastModifiedBy>
  <dcterms:modified xsi:type="dcterms:W3CDTF">2013-02-04T13:39:12Z</dcterms:modified>
  <cp:revision>570</cp:revision>
  <dc:subject>APCS1</dc:subject>
  <dc:title>Exposure Java Slides</dc:title>
</cp:coreProperties>
</file>